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7.jpeg" ContentType="image/jpeg"/>
  <Override PartName="/ppt/media/image18.png" ContentType="image/png"/>
  <Override PartName="/ppt/media/image20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00000" cy="18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WordArt 8"/>
          <p:cNvSpPr txBox="1"/>
          <p:nvPr/>
        </p:nvSpPr>
        <p:spPr>
          <a:xfrm rot="16200000">
            <a:off x="-355320" y="5495760"/>
            <a:ext cx="1628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6600"/>
                </a:solidFill>
                <a:latin typeface="Arial Black"/>
              </a:rPr>
              <a:t>NUSAPPS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" name="Text Box 9"/>
          <p:cNvSpPr/>
          <p:nvPr/>
        </p:nvSpPr>
        <p:spPr>
          <a:xfrm rot="16200000">
            <a:off x="-632160" y="3549960"/>
            <a:ext cx="21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6699"/>
                </a:solidFill>
                <a:latin typeface="Arial Narrow"/>
              </a:rPr>
              <a:t>Nutrition, Sécurité Alimentaire et Politiques Publiques au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cilss_logo"/>
          <p:cNvPicPr/>
          <p:nvPr/>
        </p:nvPicPr>
        <p:blipFill>
          <a:blip r:embed="rId2"/>
          <a:stretch/>
        </p:blipFill>
        <p:spPr>
          <a:xfrm>
            <a:off x="34920" y="103320"/>
            <a:ext cx="826920" cy="733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enfant"/>
          <p:cNvPicPr/>
          <p:nvPr/>
        </p:nvPicPr>
        <p:blipFill>
          <a:blip r:embed="rId3"/>
          <a:stretch/>
        </p:blipFill>
        <p:spPr>
          <a:xfrm>
            <a:off x="34920" y="863640"/>
            <a:ext cx="826920" cy="620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6" name="Picture 16" descr="bracial"/>
          <p:cNvPicPr/>
          <p:nvPr/>
        </p:nvPicPr>
        <p:blipFill>
          <a:blip r:embed="rId4"/>
          <a:stretch/>
        </p:blipFill>
        <p:spPr>
          <a:xfrm>
            <a:off x="34920" y="2060640"/>
            <a:ext cx="826920" cy="6141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7" name="Picture 17" descr="Sorgho0005"/>
          <p:cNvPicPr/>
          <p:nvPr/>
        </p:nvPicPr>
        <p:blipFill>
          <a:blip r:embed="rId5"/>
          <a:stretch/>
        </p:blipFill>
        <p:spPr>
          <a:xfrm>
            <a:off x="34920" y="1484280"/>
            <a:ext cx="825480" cy="6192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6"/>
          <p:cNvSpPr/>
          <p:nvPr/>
        </p:nvSpPr>
        <p:spPr>
          <a:xfrm>
            <a:off x="1714680" y="1146960"/>
            <a:ext cx="6072120" cy="2852280"/>
          </a:xfrm>
          <a:prstGeom prst="roundRect">
            <a:avLst>
              <a:gd name="adj" fmla="val 16667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National level systems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o address undernutrition and its caus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xamples from the Sah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357200" y="4643280"/>
            <a:ext cx="6858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Yves Martin-Pr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6600"/>
                </a:solidFill>
                <a:latin typeface="Arial"/>
              </a:rPr>
              <a:t>IRD – UR106 « Nutrition, Alimentation, Société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Logo-ue"/>
          <p:cNvPicPr/>
          <p:nvPr/>
        </p:nvPicPr>
        <p:blipFill>
          <a:blip r:embed="rId1"/>
          <a:stretch/>
        </p:blipFill>
        <p:spPr>
          <a:xfrm>
            <a:off x="4861080" y="6165720"/>
            <a:ext cx="502920" cy="33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logo maee"/>
          <p:cNvPicPr/>
          <p:nvPr/>
        </p:nvPicPr>
        <p:blipFill>
          <a:blip r:embed="rId2"/>
          <a:stretch/>
        </p:blipFill>
        <p:spPr>
          <a:xfrm>
            <a:off x="5508720" y="6165720"/>
            <a:ext cx="647640" cy="371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LogIRD-100_2_4"/>
          <p:cNvPicPr/>
          <p:nvPr/>
        </p:nvPicPr>
        <p:blipFill>
          <a:blip r:embed="rId3"/>
          <a:stretch/>
        </p:blipFill>
        <p:spPr>
          <a:xfrm>
            <a:off x="3421080" y="6165720"/>
            <a:ext cx="64944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logo"/>
          <p:cNvPicPr/>
          <p:nvPr/>
        </p:nvPicPr>
        <p:blipFill>
          <a:blip r:embed="rId4"/>
          <a:stretch/>
        </p:blipFill>
        <p:spPr>
          <a:xfrm>
            <a:off x="4213080" y="6094440"/>
            <a:ext cx="505080" cy="430200"/>
          </a:xfrm>
          <a:prstGeom prst="rect">
            <a:avLst/>
          </a:prstGeom>
          <a:ln w="0">
            <a:noFill/>
          </a:ln>
        </p:spPr>
      </p:pic>
      <p:sp>
        <p:nvSpPr>
          <p:cNvPr id="50" name="Line 15"/>
          <p:cNvSpPr/>
          <p:nvPr/>
        </p:nvSpPr>
        <p:spPr>
          <a:xfrm>
            <a:off x="3348000" y="5950080"/>
            <a:ext cx="2881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1071720" y="260280"/>
            <a:ext cx="785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COMITE  PERMANENT  INTER-ETATS  DE  LUTTE CONTRE  LA  SECHERESSE  DANS  LE  SAH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262673"/>
                </a:solidFill>
                <a:latin typeface="Arial"/>
              </a:rPr>
              <a:t>The Gambia</a:t>
            </a:r>
            <a:br>
              <a:rPr sz="3400"/>
            </a:br>
            <a:r>
              <a:rPr b="0" lang="fr-FR" sz="3400" spc="-1" strike="noStrike">
                <a:solidFill>
                  <a:srgbClr val="262673"/>
                </a:solidFill>
                <a:latin typeface="Arial"/>
              </a:rPr>
              <a:t>More precise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1071720" y="1571760"/>
          <a:ext cx="746748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571760"/>
                    <a:ext cx="746748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15560" y="115920"/>
            <a:ext cx="34765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Localisation </a:t>
            </a:r>
            <a:br>
              <a:rPr sz="1900"/>
            </a:b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30 Sites Sentinelles </a:t>
            </a:r>
            <a:br>
              <a:rPr sz="1900"/>
            </a:br>
            <a:r>
              <a:rPr b="0" lang="fr-FR" sz="1900" spc="-1" strike="noStrike">
                <a:solidFill>
                  <a:srgbClr val="ff0000"/>
                </a:solidFill>
                <a:latin typeface="Arial"/>
              </a:rPr>
              <a:t>(Juin 200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62673"/>
                </a:solidFill>
                <a:latin typeface="Arial"/>
              </a:rPr>
              <a:t>Niger: Admissions in MSF </a:t>
            </a:r>
            <a:br>
              <a:rPr sz="4000"/>
            </a:br>
            <a:r>
              <a:rPr b="0" lang="fr-FR" sz="4000" spc="-1" strike="noStrike">
                <a:solidFill>
                  <a:srgbClr val="262673"/>
                </a:solidFill>
                <a:latin typeface="Arial"/>
              </a:rPr>
              <a:t>Nutrition Program (Marad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94692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Niger: New admissions in TFCs</a:t>
            </a:r>
            <a:br>
              <a:rPr sz="3600"/>
            </a:b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 (2006 - all NGOs; n=384,5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73627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4"/>
          <p:cNvSpPr/>
          <p:nvPr/>
        </p:nvSpPr>
        <p:spPr>
          <a:xfrm>
            <a:off x="5643720" y="600084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ce UNICEF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1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nutrition information system: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857920" y="5429160"/>
            <a:ext cx="1295280" cy="368280"/>
          </a:xfrm>
          <a:prstGeom prst="rect">
            <a:avLst/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357280" y="4286160"/>
            <a:ext cx="2808360" cy="792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utritional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357280" y="5365800"/>
            <a:ext cx="2808360" cy="792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derly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V="1">
            <a:off x="3726000" y="50785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3071880" y="2071800"/>
            <a:ext cx="2448000" cy="1584360"/>
          </a:xfrm>
          <a:prstGeom prst="ellipse">
            <a:avLst/>
          </a:prstGeom>
          <a:solidFill>
            <a:srgbClr val="ffff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873840" y="3211560"/>
            <a:ext cx="1800360" cy="2232000"/>
          </a:xfrm>
          <a:prstGeom prst="ellipse">
            <a:avLst/>
          </a:prstGeom>
          <a:solidFill>
            <a:srgbClr val="ffff99">
              <a:alpha val="25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5572080" y="3000240"/>
            <a:ext cx="1357200" cy="642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5214960" y="5011560"/>
            <a:ext cx="1658880" cy="6321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1709280" y="57261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 flipH="1">
            <a:off x="1709280" y="47181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 flipV="1">
            <a:off x="1709640" y="378144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1714680" y="3000240"/>
            <a:ext cx="1285560" cy="78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1285920" y="3643200"/>
            <a:ext cx="2232000" cy="368280"/>
          </a:xfrm>
          <a:prstGeom prst="rect">
            <a:avLst/>
          </a:prstGeom>
          <a:solidFill>
            <a:srgbClr val="ffcc99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143000" y="1714680"/>
            <a:ext cx="2000160" cy="916920"/>
          </a:xfrm>
          <a:prstGeom prst="rect">
            <a:avLst/>
          </a:prstGeom>
          <a:solidFill>
            <a:srgbClr val="ffcc99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CHNICAL and FINANCIAL CAPACITI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143760" y="2428920"/>
            <a:ext cx="2500200" cy="642600"/>
          </a:xfrm>
          <a:prstGeom prst="rect">
            <a:avLst/>
          </a:prstGeom>
          <a:solidFill>
            <a:srgbClr val="ffcc99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D-USER NEEDS?? OBJECTIVES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429160" y="1628640"/>
            <a:ext cx="3175200" cy="642600"/>
          </a:xfrm>
          <a:prstGeom prst="rect">
            <a:avLst/>
          </a:prstGeom>
          <a:solidFill>
            <a:srgbClr val="ffcc99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LITICAL COMMIT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6357960" y="207180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6929280" y="314316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3071880" y="1000080"/>
            <a:ext cx="1871640" cy="36828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inati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0"/>
          <p:cNvSpPr/>
          <p:nvPr/>
        </p:nvSpPr>
        <p:spPr>
          <a:xfrm>
            <a:off x="1357200" y="2786040"/>
            <a:ext cx="216000" cy="574560"/>
          </a:xfrm>
          <a:prstGeom prst="upArrow">
            <a:avLst>
              <a:gd name="adj1" fmla="val 50000"/>
              <a:gd name="adj2" fmla="val 665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1"/>
          <p:cNvSpPr/>
          <p:nvPr/>
        </p:nvSpPr>
        <p:spPr>
          <a:xfrm flipH="1" flipV="1">
            <a:off x="1547640" y="1052640"/>
            <a:ext cx="1368720" cy="433440"/>
          </a:xfrm>
          <a:prstGeom prst="pi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2"/>
          <p:cNvSpPr/>
          <p:nvPr/>
        </p:nvSpPr>
        <p:spPr>
          <a:xfrm flipV="1">
            <a:off x="5076720" y="1052280"/>
            <a:ext cx="1368360" cy="433440"/>
          </a:xfrm>
          <a:prstGeom prst="pi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 flipH="1">
            <a:off x="5214960" y="4786200"/>
            <a:ext cx="1643040" cy="71640"/>
          </a:xfrm>
          <a:prstGeom prst="line">
            <a:avLst/>
          </a:prstGeom>
          <a:ln w="25560">
            <a:solidFill>
              <a:srgbClr val="00800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286240" y="4357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merg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Information systems in the </a:t>
            </a:r>
            <a:br>
              <a:rPr sz="3600"/>
            </a:b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Sahel region: main wea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71360" y="1714680"/>
            <a:ext cx="7615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equest for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itical level): lack of specification (monitoring / al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ord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+++ nutrition servi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technical/analyt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stain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unding): +++ linked to above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Example from Eritrea:</a:t>
            </a:r>
            <a:br>
              <a:rPr sz="3600"/>
            </a:b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National Nutrition Surveillanc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Espace réservé du contenu 2" descr=""/>
          <p:cNvPicPr/>
          <p:nvPr/>
        </p:nvPicPr>
        <p:blipFill>
          <a:blip r:embed="rId1"/>
          <a:stretch/>
        </p:blipFill>
        <p:spPr>
          <a:xfrm>
            <a:off x="933480" y="1633680"/>
            <a:ext cx="77659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27432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785880" y="1274760"/>
            <a:ext cx="7907400" cy="48578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3"/>
          <p:cNvSpPr/>
          <p:nvPr/>
        </p:nvSpPr>
        <p:spPr>
          <a:xfrm>
            <a:off x="6715080" y="271476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What to do ?</a:t>
            </a:r>
            <a:br>
              <a:rPr sz="3600"/>
            </a:b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(Recommendations to E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56840" y="1714680"/>
            <a:ext cx="69296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Go back to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for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teragency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duplicating systems /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e with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onflicting strategies (HFVA –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ational capacities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ion by nation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Id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4" descr=""/>
          <p:cNvPicPr/>
          <p:nvPr/>
        </p:nvPicPr>
        <p:blipFill>
          <a:blip r:embed="rId1"/>
          <a:stretch/>
        </p:blipFill>
        <p:spPr>
          <a:xfrm>
            <a:off x="2428920" y="1071720"/>
            <a:ext cx="456408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Nutrition policy /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71720" y="1643040"/>
          <a:ext cx="7818120" cy="4336920"/>
        </p:xfrm>
        <a:graphic>
          <a:graphicData uri="http://schemas.openxmlformats.org/drawingml/2006/table">
            <a:tbl>
              <a:tblPr/>
              <a:tblGrid>
                <a:gridCol w="1071360"/>
                <a:gridCol w="1000080"/>
                <a:gridCol w="1000080"/>
                <a:gridCol w="1071720"/>
                <a:gridCol w="117360"/>
                <a:gridCol w="1057320"/>
                <a:gridCol w="2500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trition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committ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oper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I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s from PHPN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N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ef’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ed to P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Nutrition policy and coordination: an ongoing process in the Sahe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360" y="1642680"/>
            <a:ext cx="76150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ntries with sound (funded)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ountries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ntries with Nation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untries with no clear nutrition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weakness: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ack of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ization (&amp; funding) need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onglas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utrition national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1071720"/>
          <a:ext cx="7715160" cy="5300640"/>
        </p:xfrm>
        <a:graphic>
          <a:graphicData uri="http://schemas.openxmlformats.org/drawingml/2006/table">
            <a:tbl>
              <a:tblPr/>
              <a:tblGrid>
                <a:gridCol w="1214280"/>
                <a:gridCol w="1974960"/>
                <a:gridCol w="2097000"/>
                <a:gridCol w="2428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n 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Institutional lev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(s) structur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‘Authority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GPOG (MoAg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A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evel of auton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level of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A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 MINI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com (SEC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A (MDRE)  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 organ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ef’ 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M (Pr.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NTA (Mo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with 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Nutrition national structur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71360" y="1285560"/>
            <a:ext cx="76150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countries with 1 nutrition division (M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ountries with 2 (or more) national services involved in nutrition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in weaknes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xcept The Gambia and Senega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derstaffed services, under-skilled people) at the centr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no services at the sub-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(to very low) level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riorit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(to very low) leve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80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R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4564080" cy="5376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858000" y="1143000"/>
            <a:ext cx="1785960" cy="5214960"/>
          </a:xfrm>
          <a:prstGeom prst="rect">
            <a:avLst/>
          </a:prstGeom>
          <a:solidFill>
            <a:srgbClr val="ffc00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lèche gauche 11"/>
          <p:cNvSpPr/>
          <p:nvPr/>
        </p:nvSpPr>
        <p:spPr>
          <a:xfrm>
            <a:off x="6183360" y="3301920"/>
            <a:ext cx="679320" cy="5684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851040" y="1000080"/>
            <a:ext cx="82929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801720" y="1343160"/>
            <a:ext cx="8263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80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R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4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4564080" cy="5376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6858000" y="1071720"/>
            <a:ext cx="1785960" cy="5214960"/>
          </a:xfrm>
          <a:prstGeom prst="rect">
            <a:avLst/>
          </a:prstGeom>
          <a:solidFill>
            <a:srgbClr val="ffc00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lèche gauche 5"/>
          <p:cNvSpPr/>
          <p:nvPr/>
        </p:nvSpPr>
        <p:spPr>
          <a:xfrm rot="1208400">
            <a:off x="5779800" y="162576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èche gauche 6"/>
          <p:cNvSpPr/>
          <p:nvPr/>
        </p:nvSpPr>
        <p:spPr>
          <a:xfrm rot="20701800">
            <a:off x="4914720" y="2189160"/>
            <a:ext cx="2036520" cy="155520"/>
          </a:xfrm>
          <a:prstGeom prst="leftArrow">
            <a:avLst>
              <a:gd name="adj1" fmla="val 50000"/>
              <a:gd name="adj2" fmla="val 49773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lèche gauche 7"/>
          <p:cNvSpPr/>
          <p:nvPr/>
        </p:nvSpPr>
        <p:spPr>
          <a:xfrm rot="324000">
            <a:off x="5933880" y="3124080"/>
            <a:ext cx="1172880" cy="174600"/>
          </a:xfrm>
          <a:prstGeom prst="leftArrow">
            <a:avLst>
              <a:gd name="adj1" fmla="val 50000"/>
              <a:gd name="adj2" fmla="val 4988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èche gauche 8"/>
          <p:cNvSpPr/>
          <p:nvPr/>
        </p:nvSpPr>
        <p:spPr>
          <a:xfrm rot="19960800">
            <a:off x="5862600" y="369576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lèche gauche 9"/>
          <p:cNvSpPr/>
          <p:nvPr/>
        </p:nvSpPr>
        <p:spPr>
          <a:xfrm rot="742800">
            <a:off x="5791320" y="3623760"/>
            <a:ext cx="1172880" cy="174600"/>
          </a:xfrm>
          <a:prstGeom prst="leftArrow">
            <a:avLst>
              <a:gd name="adj1" fmla="val 50000"/>
              <a:gd name="adj2" fmla="val 4988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lèche gauche 10"/>
          <p:cNvSpPr/>
          <p:nvPr/>
        </p:nvSpPr>
        <p:spPr>
          <a:xfrm rot="21185400">
            <a:off x="5649840" y="435600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èche gauche 11"/>
          <p:cNvSpPr/>
          <p:nvPr/>
        </p:nvSpPr>
        <p:spPr>
          <a:xfrm rot="21073800">
            <a:off x="5862240" y="590976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lèche gauche 12"/>
          <p:cNvSpPr/>
          <p:nvPr/>
        </p:nvSpPr>
        <p:spPr>
          <a:xfrm rot="19696200">
            <a:off x="5673240" y="5081400"/>
            <a:ext cx="1173240" cy="174600"/>
          </a:xfrm>
          <a:prstGeom prst="leftArrow">
            <a:avLst>
              <a:gd name="adj1" fmla="val 50000"/>
              <a:gd name="adj2" fmla="val 49899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èche gauche 13"/>
          <p:cNvSpPr/>
          <p:nvPr/>
        </p:nvSpPr>
        <p:spPr>
          <a:xfrm rot="21186000">
            <a:off x="5721480" y="5498640"/>
            <a:ext cx="1172880" cy="174600"/>
          </a:xfrm>
          <a:prstGeom prst="leftArrow">
            <a:avLst>
              <a:gd name="adj1" fmla="val 50000"/>
              <a:gd name="adj2" fmla="val 49884"/>
            </a:avLst>
          </a:prstGeom>
          <a:solidFill>
            <a:srgbClr val="ff993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CILSS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space réservé du contenu 3" descr="carte_sahel_afrique.jpg"/>
          <p:cNvPicPr/>
          <p:nvPr/>
        </p:nvPicPr>
        <p:blipFill>
          <a:blip r:embed="rId1"/>
          <a:stretch/>
        </p:blipFill>
        <p:spPr>
          <a:xfrm>
            <a:off x="965160" y="1393920"/>
            <a:ext cx="8110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80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Real’ national nutri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"/>
          <a:stretch/>
        </p:blipFill>
        <p:spPr>
          <a:xfrm>
            <a:off x="1571760" y="1071720"/>
            <a:ext cx="4564080" cy="5376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858000" y="1071720"/>
            <a:ext cx="1785960" cy="5214960"/>
          </a:xfrm>
          <a:prstGeom prst="rect">
            <a:avLst/>
          </a:prstGeom>
          <a:solidFill>
            <a:srgbClr val="ffc00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PARTNERS in 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lèche courbée vers le bas 14"/>
          <p:cNvSpPr/>
          <p:nvPr/>
        </p:nvSpPr>
        <p:spPr>
          <a:xfrm flipH="1">
            <a:off x="3214080" y="1500120"/>
            <a:ext cx="4500360" cy="3929040"/>
          </a:xfrm>
          <a:custGeom>
            <a:avLst/>
            <a:gdLst>
              <a:gd name="textAreaLeft" fmla="*/ 756720 w 4500360"/>
              <a:gd name="textAreaRight" fmla="*/ 3252600 w 4500360"/>
              <a:gd name="textAreaTop" fmla="*/ 526320 h 3929040"/>
              <a:gd name="textAreaBottom" fmla="*/ 340272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64" hR="21600" stAng="10800000" swAng="5400000"/>
                <a:lnTo>
                  <a:pt x="11979" y="0"/>
                </a:lnTo>
                <a:arcTo wR="7264" hR="21600" stAng="-5400000" swAng="3149037"/>
                <a:lnTo>
                  <a:pt x="21369" y="16200"/>
                </a:lnTo>
                <a:lnTo>
                  <a:pt x="16886" y="21600"/>
                </a:lnTo>
                <a:lnTo>
                  <a:pt x="11940" y="16200"/>
                </a:lnTo>
                <a:lnTo>
                  <a:pt x="14297" y="16200"/>
                </a:lnTo>
                <a:arcTo wR="7264" hR="21600" stAng="-2250963" swAng="-2754104"/>
                <a:lnTo>
                  <a:pt x="9622" y="1169"/>
                </a:lnTo>
                <a:arcTo wR="7264" hR="21600" stAng="-5794933" swAng="-5005067"/>
                <a:close/>
              </a:path>
              <a:path fill="darkenLess" w="21600" h="21600">
                <a:moveTo>
                  <a:pt x="0" y="21600"/>
                </a:moveTo>
                <a:arcTo wR="7264" hR="21600" stAng="10800000" swAng="5400000"/>
                <a:lnTo>
                  <a:pt x="7264" y="0"/>
                </a:lnTo>
                <a:arcTo wR="7264" hR="21600" stAng="-5400000" swAng="394933"/>
                <a:lnTo>
                  <a:pt x="9622" y="1169"/>
                </a:lnTo>
                <a:arcTo wR="7264" hR="21600" stAng="-5794933" swAng="-5005067"/>
                <a:close/>
              </a:path>
            </a:pathLst>
          </a:custGeom>
          <a:solidFill>
            <a:srgbClr val="ff993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What to do ?</a:t>
            </a:r>
            <a:br>
              <a:rPr sz="3600"/>
            </a:br>
            <a:r>
              <a:rPr b="0" lang="en-US" sz="3600" spc="-1" strike="noStrike">
                <a:solidFill>
                  <a:srgbClr val="262673"/>
                </a:solidFill>
                <a:latin typeface="Arial"/>
              </a:rPr>
              <a:t>(Prior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3920" y="1714680"/>
            <a:ext cx="764388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-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inforc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mercency to development (LR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tional capacitie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uilding/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t national level (institu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ion fort advanced training (exter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short-term training (reg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elp people working in their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18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‘</a:t>
            </a: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Ideal’ nutrition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57280" y="3643200"/>
            <a:ext cx="2808360" cy="792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utritional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357280" y="4722840"/>
            <a:ext cx="2808360" cy="792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derly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3726000" y="44355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3071880" y="1428840"/>
            <a:ext cx="2448000" cy="1584360"/>
          </a:xfrm>
          <a:prstGeom prst="ellipse">
            <a:avLst/>
          </a:prstGeom>
          <a:solidFill>
            <a:srgbClr val="ffff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6873840" y="2568600"/>
            <a:ext cx="1800360" cy="2232000"/>
          </a:xfrm>
          <a:prstGeom prst="ellipse">
            <a:avLst/>
          </a:prstGeom>
          <a:solidFill>
            <a:srgbClr val="ffff99">
              <a:alpha val="25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5572080" y="2357280"/>
            <a:ext cx="1357200" cy="642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 flipH="1">
            <a:off x="5214960" y="4214880"/>
            <a:ext cx="1714320" cy="7858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 flipH="1">
            <a:off x="1709280" y="50832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1709280" y="40752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 flipV="1">
            <a:off x="1709640" y="313848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1714680" y="2357280"/>
            <a:ext cx="1285560" cy="78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285920" y="3071880"/>
            <a:ext cx="1643040" cy="368280"/>
          </a:xfrm>
          <a:prstGeom prst="rect">
            <a:avLst/>
          </a:prstGeom>
          <a:solidFill>
            <a:srgbClr val="ffcc99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5214960" y="4000680"/>
            <a:ext cx="1643040" cy="71280"/>
          </a:xfrm>
          <a:prstGeom prst="line">
            <a:avLst/>
          </a:prstGeom>
          <a:ln w="25560">
            <a:solidFill>
              <a:srgbClr val="008000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214960" y="357192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merg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57920" y="4786200"/>
            <a:ext cx="1295280" cy="368280"/>
          </a:xfrm>
          <a:prstGeom prst="rect">
            <a:avLst/>
          </a:prstGeom>
          <a:solidFill>
            <a:srgbClr val="0080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Burkina Faso</a:t>
            </a:r>
            <a:br>
              <a:rPr sz="3600"/>
            </a:br>
            <a:r>
              <a:rPr b="0" lang="fr-FR" sz="3600" spc="-1" strike="noStrike">
                <a:solidFill>
                  <a:srgbClr val="262673"/>
                </a:solidFill>
                <a:latin typeface="Arial"/>
              </a:rPr>
              <a:t>Annual MUAC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3929040" y="3825720"/>
          <a:ext cx="514188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3825720"/>
                    <a:ext cx="514188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2"/>
          <p:cNvGraphicFramePr/>
          <p:nvPr/>
        </p:nvGraphicFramePr>
        <p:xfrm>
          <a:off x="925560" y="1428840"/>
          <a:ext cx="5221080" cy="314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5560" y="1428840"/>
                    <a:ext cx="52210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262673"/>
                </a:solidFill>
                <a:latin typeface="Arial"/>
              </a:rPr>
              <a:t>Nutrition inform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28800" y="1071720"/>
          <a:ext cx="7929360" cy="5283000"/>
        </p:xfrm>
        <a:graphic>
          <a:graphicData uri="http://schemas.openxmlformats.org/drawingml/2006/table">
            <a:tbl>
              <a:tblPr/>
              <a:tblGrid>
                <a:gridCol w="1071360"/>
                <a:gridCol w="911160"/>
                <a:gridCol w="922320"/>
                <a:gridCol w="986040"/>
                <a:gridCol w="1252440"/>
                <a:gridCol w="928800"/>
                <a:gridCol w="857160"/>
                <a:gridCol w="1000080"/>
              </a:tblGrid>
              <a:tr h="44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ected 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selected Po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urveys</a:t>
                      </a:r>
                      <a:br>
                        <a:rPr sz="1400"/>
                      </a:b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pea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level surveill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nel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t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tion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FC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k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 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b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ée Biss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rit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né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h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262673"/>
                </a:solidFill>
                <a:latin typeface="Arial"/>
              </a:rPr>
              <a:t>The Gambia</a:t>
            </a:r>
            <a:br>
              <a:rPr sz="3400"/>
            </a:br>
            <a:r>
              <a:rPr b="0" lang="en-GB" sz="3400" spc="-1" strike="noStrike">
                <a:solidFill>
                  <a:srgbClr val="262673"/>
                </a:solidFill>
                <a:latin typeface="Arial"/>
              </a:rPr>
              <a:t>Snap shot of the GNSP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asonal trends in the prevalence of malnutrition (weight for height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94 –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76341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4:59:27Z</dcterms:created>
  <dc:creator>Yves MARTIN-PREVEL</dc:creator>
  <dc:description/>
  <dc:language>en-US</dc:language>
  <cp:lastModifiedBy>Lebret</cp:lastModifiedBy>
  <dcterms:modified xsi:type="dcterms:W3CDTF">2008-12-02T14:19:14Z</dcterms:modified>
  <cp:revision>124</cp:revision>
  <dc:subject/>
  <dc:title>Diapositive 1</dc:title>
</cp:coreProperties>
</file>